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87B-682B-4F34-87B3-E35716C0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C8C-7F02-40DE-9828-EC9FD75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F02-09CF-4676-B4E7-B1F43F21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9FA-888A-4E90-ACED-B7458ED1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FD32-8947-42C7-94E9-E7E75D35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B08-4B93-4C63-96B1-4890954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399-9C5D-44D5-9986-F2205DC5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4EE4-E612-4C0A-AE54-D8DA7A6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8B2-F829-4D71-B23E-3ADC14A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461E-5BE7-4063-8B60-4391F93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225-0ADB-4A93-BF96-6D125F4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F21-D18C-48A6-8C49-518598D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4087-606A-4408-B00C-5FB409F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C426-4FDA-4391-A7ED-2B21399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A8D-05EC-4F50-AF5B-24A216C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482-4D99-4BB2-96E6-882C4714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3AB-A2EF-4194-9005-862851E2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127-6503-4F85-99CE-34832192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341-B212-4EF5-8105-D73654B5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82B-743A-40B9-A0AD-3AC01049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678-BB1A-4D3F-A7A7-CEDA2AA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76A-5AD3-416D-A4C0-3BED75D6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FFD-7912-4DAA-88CF-2ACAC73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BDB-FDEE-4080-AEB5-CCE803C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821-8CF7-484B-9B08-BC3D709726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0C5-F5E2-43D4-82BB-E6E2D647DC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New Country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New Exper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 Involv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 volunte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n exchange stud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 host fami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440" y="2031840"/>
            <a:ext cx="62485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 Volunt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8840" y="2787480"/>
            <a:ext cx="683748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498320"/>
            <a:ext cx="70866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n Exchange Stu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1480" y="3704760"/>
            <a:ext cx="578016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 ab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 with a host fami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the foreign langu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60958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 Host Fami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12600" y="3205080"/>
            <a:ext cx="645156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re your home for a ye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re a friendship for a lifet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65534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ntries you can visi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52120" y="30477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st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ma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31240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e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Zea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ot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itzer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2578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7230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ing abroad will enable you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rience a different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ect a second langu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lifelong international frien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 strong interpersonal skil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 self-confi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5377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the opportunities to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3560" y="3371400"/>
            <a:ext cx="4908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for mo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00-555-2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Stud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21:59:10Z</dcterms:created>
  <dc:creator>Connie Morrison</dc:creator>
  <dc:description/>
  <dc:language>en-US</dc:language>
  <cp:lastModifiedBy>Julie Hotchkiss</cp:lastModifiedBy>
  <dcterms:modified xsi:type="dcterms:W3CDTF">2004-09-24T15:33:00Z</dcterms:modified>
  <cp:revision>14</cp:revision>
  <dc:subject/>
  <dc:title>A New Country A New Experience</dc:title>
</cp:coreProperties>
</file>